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6702840"/>
            <a:ext cx="360" cy="147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2002-937C-4F94-845D-98D84886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CEA-BB5E-410A-8904-CE2CA16B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4F0-93CA-434A-BA29-A16E3B46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CDAB-ACC1-4C8C-876B-879DD611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28D-3C0B-42C1-A34C-6F1A53F8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A4E-461B-47F0-B81A-14D1D8C6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4FE-F34B-4A81-8E03-91F7C599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82D-7ED1-441D-B5F7-280ACE38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711-F91A-4AEB-B6F5-673A3F5B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928A-DF46-4E6F-B484-3C7D7D27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53FA-2112-4780-B52A-7E0C99F5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AB57-94F3-4489-9233-6A8F922E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42562-B03B-45CC-B96F-B064827C19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 JULIAN"/>
              </a:rPr>
              <a:t>Indian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 DECODE"/>
              </a:rPr>
              <a:t>By: Court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 JULIAN"/>
              </a:rPr>
              <a:t>Reasons for federal Government’s policy of Indian removal, including trial of tea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2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Shruti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Shruti"/>
              </a:rPr>
              <a:t>Indian Removal: When the colonist made the Indians go onto reserv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Shruti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Shruti"/>
              </a:rPr>
              <a:t>This is because they were using our land that we were using for mining, farming and railroa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 JULIAN"/>
              </a:rPr>
              <a:t>Manifest Destin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Shruti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Shruti"/>
              </a:rPr>
              <a:t>The belief that the united states has the right to take over all the Indians 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Shruti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Shruti"/>
              </a:rPr>
              <a:t>The belief that the land was going to be taken over eventually, and that the colonist had the right to take it 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Shruti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Shruti"/>
              </a:rPr>
              <a:t>And our job to civilise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 JULIAN"/>
              </a:rPr>
              <a:t>US expansion west after Civil War/ conflicts in region (US army-dances with wolves, buffalo hunters, boarding schools, etc.)</a:t>
            </a:r>
            <a:r>
              <a:rPr b="0" lang="en-US" sz="2800" spc="-1" strike="noStrike">
                <a:solidFill>
                  <a:srgbClr val="99cc00"/>
                </a:solidFill>
                <a:latin typeface="AR JULIAN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Shruti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Shruti"/>
              </a:rPr>
              <a:t>People started moving more w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Shruti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Shruti"/>
              </a:rPr>
              <a:t>The army started further w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Shruti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Shruti"/>
              </a:rPr>
              <a:t>Like in dances with wolves he was like way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Shruti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Shruti"/>
              </a:rPr>
              <a:t>Buffalo hunters wipe out buffa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Shruti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Shruti"/>
              </a:rPr>
              <a:t>Changed the Indian kids. Cant speak own language, cant wear their own clothes, has to cut their hair, nothing to do with their cul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y Bongard</cp:lastModifiedBy>
  <dcterms:modified xsi:type="dcterms:W3CDTF">2010-06-09T15:56:27Z</dcterms:modified>
  <cp:revision>1</cp:revision>
  <dc:subject/>
  <dc:title>Indian Policy</dc:title>
</cp:coreProperties>
</file>